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CC1-5B96-4FEE-8B19-7179A682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9A9-DA52-4E44-B9A5-92660EB6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7A3-496C-4EEC-B9AC-68DCD8FA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7A3-94DE-4EDF-A4E5-88D1F69A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771D-6BA6-422B-B10F-FC801026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A2A7-6AB9-42C8-A629-EBA6B167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85BB-CF27-4521-8953-15196D78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568F-B7D9-4796-BC4B-7CB83501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8FE-3FF6-4ED3-97B6-0A495D83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1631-C1B9-45FD-A5D4-EF9772AE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82BA-8595-431C-A239-73755D4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419-B744-49D1-BEF9-62BD4CFB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9E31-7C94-4C52-A71B-A948E843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6E96-3EDC-4F4F-AB7E-9D5065F7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28F9-3102-4A91-8CA7-E59E171E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B733-F3ED-48C2-BAEE-113B0B3C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8D8E-23EB-496B-AE07-A6FBEA0D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774-5361-4FD0-84A1-35B030D0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174-A5CD-409B-BBA9-1610710F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291-DCEA-4F0B-9206-5E618FC1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526-8494-4A82-972D-233D0304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CE3-B1B5-49B1-9A99-9DD6C160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955-8B89-453D-8EE1-475AE1F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534-95FC-433F-A44F-A744371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3E3A-BB27-4A07-AE6F-AAEF8F7098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8E72-E324-4BEC-A32E-4A3EC38F77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ffbi.com/cgi-registry/fffbi/world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fffbi.com/missions/m1/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fffbi.com/games/perp/" TargetMode="External"/><Relationship Id="rId6" Type="http://schemas.openxmlformats.org/officeDocument/2006/relationships/hyperlink" Target="http://www.fffbi.com/cgi-registry/fffbi/world" TargetMode="External"/><Relationship Id="rId7" Type="http://schemas.openxmlformats.org/officeDocument/2006/relationships/hyperlink" Target="http://www.fffbi.com/missions/m1/" TargetMode="External"/><Relationship Id="rId8" Type="http://schemas.openxmlformats.org/officeDocument/2006/relationships/hyperlink" Target="http://www.fffbi.com/games/perp/walk.html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crick.northants.sch.uk/Flash%20Studio/cfsmaths/Digitworks/digitmenu.html" TargetMode="External"/><Relationship Id="rId3" Type="http://schemas.openxmlformats.org/officeDocument/2006/relationships/hyperlink" Target="http://www.prongo.com/math/multiplication.html" TargetMode="External"/><Relationship Id="rId4" Type="http://schemas.openxmlformats.org/officeDocument/2006/relationships/hyperlink" Target="http://www.lgfl.net/lgfl/leas/enfield/schools/southbury/web/mw/x10%20x100/x10%20x100.swf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ffbi.com/missions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bbc.co.uk/skillswise/words/grammar/punctuation/apostrophes/game.shtml" TargetMode="External"/><Relationship Id="rId4" Type="http://schemas.openxmlformats.org/officeDocument/2006/relationships/hyperlink" Target="http://www.bbc.co.uk/skillswise/words/grammar/interestsentences/adjectives/game.shtml" TargetMode="External"/><Relationship Id="rId5" Type="http://schemas.openxmlformats.org/officeDocument/2006/relationships/hyperlink" Target="http://www.bbc.co.uk/skillswise/words/spelling/recognising/homophones/game.shtml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Senior School 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Digital Learning centr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2255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Home Pag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Coffee Guy standing and pointing"/>
          <p:cNvPicPr/>
          <p:nvPr/>
        </p:nvPicPr>
        <p:blipFill>
          <a:blip r:embed="rId1"/>
          <a:stretch/>
        </p:blipFill>
        <p:spPr>
          <a:xfrm>
            <a:off x="3879720" y="3141720"/>
            <a:ext cx="2378160" cy="273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505240" cy="288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234936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5733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72428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242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3645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465300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orizontal logo with Elbow"/>
          <p:cNvPicPr/>
          <p:nvPr/>
        </p:nvPicPr>
        <p:blipFill>
          <a:blip r:embed="rId3"/>
          <a:stretch/>
        </p:blipFill>
        <p:spPr>
          <a:xfrm>
            <a:off x="4788000" y="476280"/>
            <a:ext cx="3600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Agent Solomon at his des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213000"/>
            <a:ext cx="278136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A GAS-Chicken flexing her mus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4581360"/>
            <a:ext cx="2878200" cy="12956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5"/>
          </p:cNvPr>
          <p:cNvSpPr/>
          <p:nvPr/>
        </p:nvSpPr>
        <p:spPr>
          <a:xfrm>
            <a:off x="1332000" y="1989000"/>
            <a:ext cx="792000" cy="64800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4997" y="1400"/>
                </a:lnTo>
                <a:lnTo>
                  <a:pt x="1400" y="1400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4997" y="20200"/>
                </a:lnTo>
                <a:lnTo>
                  <a:pt x="24997" y="1400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7" y="20200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/>
          </p:cNvPr>
          <p:cNvSpPr/>
          <p:nvPr/>
        </p:nvSpPr>
        <p:spPr>
          <a:xfrm>
            <a:off x="1332000" y="3213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7"/>
          </p:cNvPr>
          <p:cNvSpPr/>
          <p:nvPr/>
        </p:nvSpPr>
        <p:spPr>
          <a:xfrm>
            <a:off x="1403280" y="4797360"/>
            <a:ext cx="865080" cy="79236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81" h="21600">
                <a:moveTo>
                  <a:pt x="0" y="0"/>
                </a:moveTo>
                <a:lnTo>
                  <a:pt x="23581" y="0"/>
                </a:lnTo>
                <a:lnTo>
                  <a:pt x="23581" y="21600"/>
                </a:lnTo>
                <a:lnTo>
                  <a:pt x="0" y="21600"/>
                </a:lnTo>
                <a:close/>
              </a:path>
              <a:path fill="lightenLess" w="23581" h="21600">
                <a:moveTo>
                  <a:pt x="0" y="0"/>
                </a:moveTo>
                <a:lnTo>
                  <a:pt x="23581" y="0"/>
                </a:lnTo>
                <a:lnTo>
                  <a:pt x="22182" y="1400"/>
                </a:lnTo>
                <a:lnTo>
                  <a:pt x="1400" y="1400"/>
                </a:lnTo>
                <a:close/>
              </a:path>
              <a:path fill="darken" w="23581" h="21600">
                <a:moveTo>
                  <a:pt x="23581" y="0"/>
                </a:moveTo>
                <a:lnTo>
                  <a:pt x="23581" y="21600"/>
                </a:lnTo>
                <a:lnTo>
                  <a:pt x="22182" y="20200"/>
                </a:lnTo>
                <a:lnTo>
                  <a:pt x="22182" y="1400"/>
                </a:lnTo>
                <a:close/>
              </a:path>
              <a:path fill="darkenLess" w="23581" h="21600">
                <a:moveTo>
                  <a:pt x="23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2" y="20200"/>
                </a:lnTo>
                <a:close/>
              </a:path>
              <a:path fill="lighten" w="23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465300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 Gas Chic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328464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Trivia Quiz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Perps standing in a lineup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19640" y="1341360"/>
            <a:ext cx="2737080" cy="1741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27280" y="1989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 W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44000" y="5373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404"/>
                </a:moveTo>
                <a:lnTo>
                  <a:pt x="13376" y="8015"/>
                </a:ln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lnTo>
                  <a:pt x="17763" y="12367"/>
                </a:lnTo>
                <a:lnTo>
                  <a:pt x="16109" y="12367"/>
                </a:lnTo>
                <a:lnTo>
                  <a:pt x="16109" y="19556"/>
                </a:lnTo>
                <a:lnTo>
                  <a:pt x="5491" y="19556"/>
                </a:lnTo>
                <a:lnTo>
                  <a:pt x="5491" y="12367"/>
                </a:lnTo>
                <a:lnTo>
                  <a:pt x="3837" y="12367"/>
                </a:lnTo>
                <a:close/>
              </a:path>
              <a:path fill="darkenLess" w="21600" h="24734">
                <a:moveTo>
                  <a:pt x="13376" y="8015"/>
                </a:move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close/>
              </a:path>
              <a:path fill="darkenLess" w="21600" h="24734">
                <a:moveTo>
                  <a:pt x="9877" y="15866"/>
                </a:moveTo>
                <a:lnTo>
                  <a:pt x="11723" y="15866"/>
                </a:lnTo>
                <a:lnTo>
                  <a:pt x="11723" y="19556"/>
                </a:lnTo>
                <a:lnTo>
                  <a:pt x="16109" y="19556"/>
                </a:lnTo>
                <a:lnTo>
                  <a:pt x="16109" y="12367"/>
                </a:lnTo>
                <a:lnTo>
                  <a:pt x="5491" y="12367"/>
                </a:lnTo>
                <a:lnTo>
                  <a:pt x="5491" y="19556"/>
                </a:lnTo>
                <a:lnTo>
                  <a:pt x="9877" y="195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Math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35640" y="2708280"/>
            <a:ext cx="2752560" cy="31622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2"/>
          </p:cNvPr>
          <p:cNvSpPr/>
          <p:nvPr/>
        </p:nvSpPr>
        <p:spPr>
          <a:xfrm>
            <a:off x="971640" y="220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3"/>
          </p:cNvPr>
          <p:cNvSpPr/>
          <p:nvPr/>
        </p:nvSpPr>
        <p:spPr>
          <a:xfrm>
            <a:off x="971640" y="3357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4"/>
          </p:cNvPr>
          <p:cNvSpPr/>
          <p:nvPr/>
        </p:nvSpPr>
        <p:spPr>
          <a:xfrm>
            <a:off x="1042920" y="4797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2205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igit Work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3357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’s Up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4724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ying or Dividing by 10 or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Bunkum catching a fly with his tongue"/>
          <p:cNvPicPr/>
          <p:nvPr/>
        </p:nvPicPr>
        <p:blipFill>
          <a:blip r:embed="rId5"/>
          <a:stretch/>
        </p:blipFill>
        <p:spPr>
          <a:xfrm>
            <a:off x="4500720" y="549360"/>
            <a:ext cx="360036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10108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" w="21600" h="27007">
                <a:moveTo>
                  <a:pt x="10800" y="6540"/>
                </a:moveTo>
                <a:lnTo>
                  <a:pt x="13376" y="9152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3"/>
                </a:lnTo>
                <a:lnTo>
                  <a:pt x="5491" y="20693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7">
                <a:moveTo>
                  <a:pt x="13376" y="9152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7">
                <a:moveTo>
                  <a:pt x="9877" y="17002"/>
                </a:moveTo>
                <a:lnTo>
                  <a:pt x="11723" y="17002"/>
                </a:lnTo>
                <a:lnTo>
                  <a:pt x="11723" y="20693"/>
                </a:lnTo>
                <a:lnTo>
                  <a:pt x="16109" y="20693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3"/>
                </a:lnTo>
                <a:lnTo>
                  <a:pt x="9877" y="206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Agents Glitch and Su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549360"/>
            <a:ext cx="2952720" cy="110340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3"/>
          </p:cNvPr>
          <p:cNvSpPr/>
          <p:nvPr/>
        </p:nvSpPr>
        <p:spPr>
          <a:xfrm>
            <a:off x="1116000" y="227664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4"/>
          </p:cNvPr>
          <p:cNvSpPr/>
          <p:nvPr/>
        </p:nvSpPr>
        <p:spPr>
          <a:xfrm>
            <a:off x="1042920" y="342900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5"/>
          </p:cNvPr>
          <p:cNvSpPr/>
          <p:nvPr/>
        </p:nvSpPr>
        <p:spPr>
          <a:xfrm>
            <a:off x="1116000" y="472428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5013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o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3573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2421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ostrop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084720" y="2852640"/>
            <a:ext cx="1649520" cy="216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956720" y="537372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23:56:46Z</dcterms:created>
  <dc:creator>Gunn</dc:creator>
  <dc:description/>
  <dc:language>en-US</dc:language>
  <cp:lastModifiedBy>lindal</cp:lastModifiedBy>
  <dcterms:modified xsi:type="dcterms:W3CDTF">2007-05-10T14:09:18Z</dcterms:modified>
  <cp:revision>4</cp:revision>
  <dc:subject/>
  <dc:title>Senior School  Digital Learning centre</dc:title>
</cp:coreProperties>
</file>